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CEA-1220-450B-B3AB-4E36B461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53A-8BE4-46AF-A4AF-7331CD85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8A9-2E85-4C2D-81A0-FB452442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AAB-54AD-4C48-AB4A-31F2F6BD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CE37-A79C-46BC-A9C5-8043148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7FC8-1614-4A0E-A10C-3A2E30E6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D443-9902-42E0-9884-76559ED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2B66-E4EA-49D2-9354-4D5EC409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8AD2-1A98-41C3-BD0D-7E2FF4EC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7690-B5F7-4EB9-8628-C090833C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37F-650E-4006-83D5-A49AD5FE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57C-0234-46FD-8803-FF025919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BBC-5C30-471C-B268-BE4164D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C5BD-12C4-41E3-BE46-B6EFB9B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6A7D-4A5D-4C57-A044-85AFD266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A517-78D8-4477-B4F7-5F530968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BB34-C0DA-41C3-995F-C55B1A7E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E7F-D255-42DA-A516-B26ED91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B3D-B719-4CBA-83CE-561D87AA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8EF-9533-4EE6-B409-3A5983CC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B71-3C13-497E-87E8-459840F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A22-F426-4846-9044-F665E03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717-4C12-4265-BAA6-C7A1280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579-811E-485A-9B4B-862B795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3A5-F1CF-41A1-BE7B-DD0FA487EE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AFA-9797-4910-9D8A-BC828302B49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ratic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ng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W:  Monda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Contracts due Mon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resourc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quotes/responses each +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ass Practice: Resear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p. 23 of LA Y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. 614-615 in Literature Books, create the Works Cited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thesis below, find 3 quotes that support the thesis.  Create a response journal for the qu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is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order to prevent teen pregnancy, adults should place an emphasis on sex education and the reality behind being a teen m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own 3 questions you have for Gabby about her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y sources that Gabrielle refers to in her paper.  How did these sources support her s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cratic Dicuss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en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Grade Reflection 5/13/10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Grad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Grad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How much did it increase or decrease b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grade increase (be realis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Obstacle: 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(Test, quizzes, homework, classwork, presen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es for over com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Come to Ms. Tucker’s class after school or during 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Plan successful study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00"/>
                </a:solidFill>
                <a:latin typeface="Times New Roman"/>
              </a:rPr>
              <a:t>Make study games and us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ud Assignment:  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I am proud of my HW Packet because I completed all the assignments and received a 10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5:05:05Z</dcterms:created>
  <dc:creator>Tucker</dc:creator>
  <dc:description/>
  <dc:language>en-US</dc:language>
  <cp:lastModifiedBy>Tucker</cp:lastModifiedBy>
  <dcterms:modified xsi:type="dcterms:W3CDTF">2010-05-13T20:28:51Z</dcterms:modified>
  <cp:revision>2</cp:revision>
  <dc:subject/>
  <dc:title>Slide 1</dc:title>
</cp:coreProperties>
</file>